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2EF5-D9BC-430A-8E32-5ACEC9306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6BCC-1F8E-42AB-BDB9-9751F54B5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6594-4FF1-43DC-BFC7-904651E4A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688C-B117-47A5-9628-B0C2ECC4D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A7ACA-EC2B-4ADC-9C82-4CEF1A922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721E0-F188-4AAB-93A1-101335C43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8DF93-521A-42FD-93F4-75CADE9CD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3BEF9-3270-4E23-BDEA-454CB1C8D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7397C-86DE-4155-980A-C780AE987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AE686-EAD1-4771-9AEA-01B0A8878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53832-5623-4BB7-B0B6-9F6FC470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EDB2-2466-4987-A010-BE6428CEF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04D7E-E7FD-4F92-BF9D-03FF58B05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ED7C7-90A4-42E7-B093-5255D482A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3F36C-3CEF-4FB6-AB79-F13583536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E113E-08F4-410E-9B77-031EADEF2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90FFD-F381-4DF9-91BD-B72FC301F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85AD-4259-405B-BC7E-6F2C7C296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7093-CF0B-4D28-AA5C-6DBB7CA46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7090-C2D1-4CA2-98C6-F55758F41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375D-2EAD-4EA1-93D4-BFF580259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844A-19F7-4AAC-862B-03C8182C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90B1-8547-44D9-A001-DEA9BD48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4519-9976-4F51-B8E7-E3E5B0487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8B8BC-7FF5-46ED-A2C4-69EAB01DFD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FEAB3-7FC5-43BC-87BA-75B111B3B31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vanguard.com/" TargetMode="External"/><Relationship Id="rId2" Type="http://schemas.openxmlformats.org/officeDocument/2006/relationships/hyperlink" Target="http://fidelity.com/" TargetMode="External"/><Relationship Id="rId3" Type="http://schemas.openxmlformats.org/officeDocument/2006/relationships/hyperlink" Target="http://troweprice.com/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2133720" y="498600"/>
            <a:ext cx="5029200" cy="56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tock Mutual Fund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of fund that invests in stock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funds are also known as equity fun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many different types of stock mutual fund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of the most common includ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rge-cap funds, mid-cap funds, small-cap funds, income funds, growth funds, value funds, blend funds, international funds, and sector fun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will take a closer look at each of these different types of stock mutual fun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arge-Cap Stock Fund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mutual funds invest in companies with market capitalizations in excess of 10 billion dolla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stocks held in a large-cap fund are from firms with established and profitable business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rge-cap stock funds are less volatile and considered safer than mid-cap and small-cap stock fun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rge-cap stock funds do not offer as much growth potential as mid-cap and small-cap stock fun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id-Cap Stock Fund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mutual funds invest in companies with market capitalizations between 2 and 10 billion dolla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stocks held in a mid-cap fund are from firms with established businesses that are still expanding and growing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funds tend to offer more growth than large-cap stocks and less volatility than small-cap stocks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mall-Cap Stock Fund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mutual funds invest in companies with market capitalizations between 300 million and 2 billion dolla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stocks held in a small-cap fund are from firms with innovative businesses that are still growing and developing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funds tend to offer more growth potential than large-cap and mid-cap fun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ever, small-cap stock funds are much more volati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Good News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time for us to begin watching a Nightly Business Report Video on Mutual Fund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a question sheet of cours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ncome Stock Fund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are also known as equity income fu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funds include stocks of companies with a long history of paying divide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ajor objective of an income stock fund is to provide steady income to investo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Growth Stock Fund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funds invest in stocks with the potential for long-term grow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means that there is the potential that these stocks will increase significantly in valu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tocks of companies that are experiencing growth in earnings and revenue are the types of stocks found in growth stock mutual fun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Value Stock Fund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funds invest in companies that are thought to be good bargai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funds invest in stocks that have fallen out of favor with mainstream investors for one reason or anoth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e stocks are often the stocks of established companies that have stopped growing and that use their earnings to pay dividend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e funds produce current income (from the dividends) as well as the potential for long-term growth (from capital appreciation once the stocks become popular again)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lend Stock Fund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funds invest in the stocks of companies that are classified as “growth” stocks and “value” stock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growth stocks are designed to provide long-term appreciation in valu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value stocks are designed to provide dividend income and future grow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nternational Stock Fund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funds include the stocks of foreign companies that are sold in securities markets throughout the wor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ational funds may invest in stocks from throughout the world or from a particular nation or reg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tentially, these funds can provide a tremendous amount of growth, however, they are also considered to be riskier than other types of stock fun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685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An Introduction to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1371600" y="1986120"/>
            <a:ext cx="59738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ector Stock Fund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e of fund that invests in a single sector of the economy or industry, such as biomedical research, real estate or precious metal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tor funds often generate erratic performance and usually are either at the top or the bottom of the mutual fund performance rankin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ndex Fund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are mutual funds whose holdings aim to track the performance of a specific stock market index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ost common index fund tracks the S&amp;P 500. These index funds invest in the exact stocks (and in the same percentages) as those found in the S&amp;P 50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ex funds have lower costs than actively managed fun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ond Mutual Fund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e of mutual fund that invests in bo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different types of bond mutual fu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ypicall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bond mutual funds have the objective of providing stable income with minimal ris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ypes of Bond Mutual Fund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are going to talk about the following types of bond mutual fund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rt, Intermediate, and Long-Term U.S. Bond Fu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rt, Intermediate, and Long-Term Corporate Bond Fu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nicipal Bond Fu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-Yield (junk) Bond Fu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U.S. Bond Mutual Fund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rt-Term- invests in T-Bills and T-Notes that have maturities of less than five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mediate- invests in government securities that have maturities between five and ten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ng-Term- invests in government securities that have maturities longer than ten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porate Bond Mutual Fund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porate bond mutual funds are also classified by the maturity dates of the bonds held by the fund. They are divided into short-term, intermediate, and long-ter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ame maturity rules apply for corporate bond mutual funds as with U.S. bond mutual fund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unicipal Bond Mutual Fund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mutual funds invest in municipal bonds and provide investors with tax-free interest inco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also insured municipal bond mutual funds. An outside insurance company protects investors from a possible default by the municipal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High Yield (Junk) Bond Mutual Fund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mutual funds invest in high yield, high risk corporate bo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are the riskiest type of bond mutual fund. However, these are also the most potentially rewarding type of bond mutual fu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alanced Mutual Fund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are also known as hybrid fu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mutual funds invest in stocks, bonds, and money market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are very diversified mutual funds. The stock portion of the fund provides the potential for capital appreciation, while the bond and money market portion provide inco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 Mutual Fund Prospectu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a legal document which describes the investment objective of the fund, the manner in which the fund is administered and operated, the fees and other pertinent informa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spectus should be read thoroughly before making an investment decision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at are Mutual Funds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tual funds are a type of investment that takes money from many investors and uses it to make investments based on a stated investment objecti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shareholder in the mutual fund participates proportionally (based upon the number of shares owned) in the gain or loss of the fu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oad v. No Load Mutual Fund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mutual fund that charges a commission to cover its administrative costs is called a load fun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front-end load charges the load when the shares are purchased, while a back-end load charges the load when the shares are so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no-load mutual fund doesn’t charge a purchase or sales commiss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ajor Mutual Fund Compani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nguard, Fidelity, and T. Rowe Price are three of the world’s major mutual fund compan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http://vanguard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http://fidelity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http://troweprice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y do People Invest in Mutual Funds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tual funds offer investors an affordable way to diversify their investment portfolio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tual funds allow investors the opportunity to have a financial stake in many different types of invest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investments include: stocks, bonds, money markets, real estate, commodities, etc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ividually, an investor may be able to own stock in a few companies, a few bonds, and have money in a money market account. Participation in a mutual fund, however, allows the investor to have much greater exposure to each of these asset clas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ntinue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mutual funds are professionally managed by an investment expert known as a portfolio manage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ndividual makes all of the buying and selling decisions for the fu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thousands of different mutual funds in the United Stat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provides investors with many options to help them achieve their investment objectiv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1600200" y="1219320"/>
            <a:ext cx="57466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asic Mutual Fund Categori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tual Funds can be divided into four basic categories based upon the funds investment objecti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categories a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ey Market Mutual Fu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ock Mutual Fu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nd Mutual Fu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anced Mutual Fu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oney Market Mutual Fund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55548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oney Market Mutual Fund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the most conservative type of mutual fu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goal is to maintain the $1 value of its shares while providing incom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sts in high-quality, short-term securities such as certificates of deposit, U.S. Treasury Bills, and U.S. Treasury Not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MF’s are an appropriate place for saving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funds have typically offered higher interest rates than bank savings account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ey market mutual funds are not insured by the FDI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8T16:27:30Z</dcterms:created>
  <dc:creator>Sys Admin</dc:creator>
  <dc:description/>
  <dc:language>en-US</dc:language>
  <cp:lastModifiedBy>SysAdmin</cp:lastModifiedBy>
  <dcterms:modified xsi:type="dcterms:W3CDTF">2011-12-06T20:03:18Z</dcterms:modified>
  <cp:revision>74</cp:revision>
  <dc:subject/>
  <dc:title>An Introduction to Mutual Funds</dc:title>
</cp:coreProperties>
</file>